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B3C-8FDF-439F-8DE9-ED309BE7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AB5-7678-4787-A08C-50B6F24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C0A-53AD-4B46-89CC-BD3E236A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64D-CCEF-4622-9DFF-CFF83DC0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65D-DB2B-4937-BD88-A941F255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94AF-913F-4D64-9BD1-FCE12B29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4343-E642-4223-8BC8-54307D88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2788-1283-44E7-97CA-E94F5E7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9FA-0CC2-4940-947B-0B883CB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2128-E230-46E4-9D37-3D1AC916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CEA-879E-4547-A319-B385AE6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0F7-E336-41EF-8487-EC9B21F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998-A86D-4426-9F9C-20D8402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5A8C-91F8-444D-A579-6B13E96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FCF6-BA6D-439D-8312-FE1F774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C63F-CC4F-4798-8102-A07443B3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2F3D-86FF-44EE-A065-FA77174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35A-B680-4ABF-BF78-9056722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666-EA3A-450A-B24E-E56F558E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79-FC7B-4261-8B60-95248C0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1FA-7FCE-4B31-99CE-A2DDE1C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9DD-6213-4401-B402-3AAD393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3D3-B0FE-4D09-BC0B-D83906D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621-A305-4894-8ED2-5FC41DC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02CA-A4F7-448F-A265-AD55806B2C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356-5FA7-4E0A-9AC7-E875003A74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Death which killed at least 38,000,000 people in forteenth century Europe and China slowed the worlds poplulation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sw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Death, which killed at least 38 million people in fourteenth-century Europe and China, slowed the world’s population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Freewrite</a:t>
            </a:r>
            <a:br>
              <a:rPr sz="4000"/>
            </a:b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ocabulary Pract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 and do the vocabulary squa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Great Gatsby-Ch.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hort summary of ch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o Do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ding homework, study for vocabulary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 your top and read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18:56Z</dcterms:created>
  <dc:creator>rebecca</dc:creator>
  <dc:description/>
  <dc:language>en-US</dc:language>
  <cp:lastModifiedBy>rebecca</cp:lastModifiedBy>
  <dcterms:modified xsi:type="dcterms:W3CDTF">2009-02-11T19:41:54Z</dcterms:modified>
  <cp:revision>2</cp:revision>
  <dc:subject/>
  <dc:title>DOL</dc:title>
</cp:coreProperties>
</file>